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524-963E-4B46-9BB2-E0EA9CD5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01A-B90E-4FD2-8B42-D9B710EE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DD3-5E2D-4FFF-AAAF-66C953AA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72B-D490-42AA-89A0-ADAE5749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5763-70F5-43B4-8D1F-5BE33A60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2248-31C1-4135-B19C-AF73FFB7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0833-AD2D-4D1B-B38F-697DA9CE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25F-A4FF-4771-83A4-B9B2E900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EC3E-9C64-45E8-A98D-6F429952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288A-739A-454C-A3C5-CC9B433F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20F2-72A7-4E11-89D6-48337BC8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0E3-9764-4671-A819-05FF8BC5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C0AD-320C-450E-B5D5-56F0E3F5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DF8B-F6C4-434F-B461-4526227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2752-5CAF-4028-8023-124704AB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7DD3-B386-4889-B0DF-7821BB6F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7BAA-B86F-4CE1-8009-95C4B5A6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C98-77E7-45BC-9838-8CF2AB8D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DA3-7203-4373-A95A-63E808B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3E6-157E-4224-843D-E6681708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E77-138F-4092-9E57-5D283EB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7F5-FE2E-47B7-846B-236240D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951-ACAF-4E93-8B33-21475E01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B2D-E994-48DB-AB08-0270B0C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4D94-F0E3-4EA8-848F-CBCE1EBC8C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BA4F-CCCA-410C-8DD3-13FDFCB17CA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 Mansión por: Abby Bennet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62485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Gara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garaje. Es peq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y moder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57150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 Mans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mansion. Es muy grande y bon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54104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moderna, bella, y fabulo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762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188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 Es muy grande y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0440" y="1980720"/>
            <a:ext cx="807696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sala. Es bonita, estupenda, y nue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1722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. Es muy impresionante y nuev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uy grande y be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8387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patio. Es muy grande, bello, y ma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0199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Jard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jardin. Es nuevo, bonito, ma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o,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9:41Z</dcterms:created>
  <dc:creator>bennettabb</dc:creator>
  <dc:description/>
  <dc:language>en-US</dc:language>
  <cp:lastModifiedBy>bennettabb</cp:lastModifiedBy>
  <dcterms:modified xsi:type="dcterms:W3CDTF">2013-04-02T12:22:47Z</dcterms:modified>
  <cp:revision>4</cp:revision>
  <dc:subject/>
  <dc:title>La Mansión</dc:title>
</cp:coreProperties>
</file>